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4DFF-8005-4122-9B42-7EA45C3C34B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овоспр. Че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2F75-A663-4862-8429-A877151530F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9B84-E0AD-4A7F-A179-3BBCC7B4DBB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5E89-B63F-4A33-A603-89C9FF22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63E1-F3AE-4315-9DE9-458FB3BF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0CD9-03DF-4782-83DE-B126262F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349F-376F-4F2F-8310-8349761A5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ADB1-F7F3-4755-B210-7196EF22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43EC-7428-468D-B9BE-3AC5B699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5E3F-CD81-4EFB-82B9-1FD7C7A6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5047-DE05-4C9C-ABDC-0E43C14E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B875-8A8A-4DD2-BA12-F53C71CD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BCB0-345D-4B32-B360-D443B550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9EFA-3FBD-4766-A4A3-EDFE5B63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2373-D50F-4E39-8379-1916E629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DE3D-9D53-49A9-954F-D6E8E7DEBAD2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" Target="slide26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" Target="slide26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814640"/>
            <a:ext cx="777240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лахова М.Х.,                                                                               ведущий консультант                                                                          Министерства образования и науки РТ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2949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ганизация проведения в 2014 году государственной итоговой аттестации                                                             по образовательным программам                основного общего образования                                                                    в форме основного государственного экзам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еспечение ППЭ техническими средствами и оборудованием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468360" y="127332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усскому языку – звуковоспроизводящей аппаратурой (для воспроизведения аудиотекст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ностранным языкам (английский, французский,  немецкий, испанский) – звуковоспроизводящей (для воспроизведения аудиотекста) и звукозаписывающей аппаратурой (диктофоны, батарейки), компакт-дисками (CD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для записи ответов экзаменуемых в разделе «Говорение»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физике – экспериментальным оборудованием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нформатике и ИКТ – персональными компьютерами                                         с установленным соответствующим программным обеспечением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395280" y="1329840"/>
            <a:ext cx="8072280" cy="41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33720" bIns="200160" anchor="ctr">
            <a:spAutoFit/>
          </a:bodyPr>
          <a:p>
            <a:pPr lvl="1" algn="just">
              <a:lnSpc>
                <a:spcPct val="100000"/>
              </a:lnSpc>
              <a:tabLst>
                <a:tab algn="l" pos="0"/>
                <a:tab algn="l" pos="51444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ППЭ необходимо обеспечить наличие аудитории  для участников с ОВЗ, а также предусмотреть условия для участников с ОВЗ: наличие пандусов, размещение аудитории с учетом беспрепятственного доступа. Аудитории для участников с ОВЗ готовятся с учетом состояния здоровья, особенности психофизического развития и индивидуальных возможностей (аудитория для участников с ОВЗ должна располагаться на 1 этаже ППЭ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51444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8000" y="549360"/>
            <a:ext cx="89280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ка ППЭ для лиц с ОВЗ к экзамен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6" name="AutoShape 2"/>
          <p:cNvCxnSpPr/>
          <p:nvPr/>
        </p:nvCxnSpPr>
        <p:spPr>
          <a:xfrm flipH="1" rot="16200000">
            <a:off x="5722920" y="2415960"/>
            <a:ext cx="2160" cy="2160"/>
          </a:xfrm>
          <a:prstGeom prst="bentConnector5">
            <a:avLst>
              <a:gd name="adj1" fmla="val 14400000"/>
              <a:gd name="adj2" fmla="val 68800000"/>
              <a:gd name="adj3" fmla="val -14400000"/>
            </a:avLst>
          </a:prstGeom>
          <a:ln w="0">
            <a:noFill/>
          </a:ln>
        </p:spPr>
      </p:cxnSp>
      <p:sp>
        <p:nvSpPr>
          <p:cNvPr id="77" name="AutoShape 3"/>
          <p:cNvSpPr/>
          <p:nvPr/>
        </p:nvSpPr>
        <p:spPr>
          <a:xfrm>
            <a:off x="299880" y="839160"/>
            <a:ext cx="8436240" cy="1852200"/>
          </a:xfrm>
          <a:prstGeom prst="roundRect">
            <a:avLst>
              <a:gd name="adj" fmla="val 25454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беспечить готовность ППЭ к проведению ОГЭ, в соответствии с требованиями к ППЭ. Предусмотреть аудитории для сопровождающих участников ОГЭ, представителей СМИ. Убрать или закрыть стенды в аудиториях. За день до экзамена проверить пожарные выходы, средства пожаротушения, иметь комплект ключей от всех рабочих аудиторий. Обеспечить каждую аудиторию часами. Подготовить ножницы, к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169920" y="3044160"/>
            <a:ext cx="4618080" cy="35060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знакомить под роспись всех работников ППЭ со следующими материалам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ормативно-правовыми документами, регламентирующими проведение ОГЭ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нструкциями, определяющими порядок работы в ППЭ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авилами заполнения бланков ответов ОГЭ участниками ОГЭ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рядком оформления форм, ведомостей, протоколов актов и служебных документов в аудитории и ППЭ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AutoShape 9"/>
          <p:cNvSpPr/>
          <p:nvPr/>
        </p:nvSpPr>
        <p:spPr>
          <a:xfrm>
            <a:off x="5105520" y="3048120"/>
            <a:ext cx="3762360" cy="3580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ить в необходимом количеств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7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нструкцию, зачитываемую организатором в аудитории перед началом экзамена для участников ОГЭ; информацию о сроках ознакомления участников ОГЭ с результатами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7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бумагу для черновиков из расчета по два листа на каждого участника ОГЭ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7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проводительные лист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8920" y="115920"/>
            <a:ext cx="692928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ка ППЭ к экзамену руководителем   ПП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1" name="AutoShape 2"/>
          <p:cNvCxnSpPr/>
          <p:nvPr/>
        </p:nvCxnSpPr>
        <p:spPr>
          <a:xfrm flipH="1" rot="16200000">
            <a:off x="5722920" y="2415960"/>
            <a:ext cx="2160" cy="2160"/>
          </a:xfrm>
          <a:prstGeom prst="bentConnector5">
            <a:avLst>
              <a:gd name="adj1" fmla="val 14400000"/>
              <a:gd name="adj2" fmla="val 68800000"/>
              <a:gd name="adj3" fmla="val -14400000"/>
            </a:avLst>
          </a:prstGeom>
          <a:ln w="0">
            <a:noFill/>
          </a:ln>
        </p:spPr>
      </p:cxnSp>
      <p:sp>
        <p:nvSpPr>
          <p:cNvPr id="82" name="AutoShape 3"/>
          <p:cNvSpPr/>
          <p:nvPr/>
        </p:nvSpPr>
        <p:spPr>
          <a:xfrm>
            <a:off x="214200" y="1018080"/>
            <a:ext cx="3568680" cy="994680"/>
          </a:xfrm>
          <a:prstGeom prst="roundRect">
            <a:avLst>
              <a:gd name="adj" fmla="val 25454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е позднее, чем за 2 часа до начала экзамен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– приступить к своим обязанностя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92240" y="2119680"/>
            <a:ext cx="8700840" cy="1815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 algn="ctr">
              <a:tabLst>
                <a:tab algn="l" pos="0"/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Не позднее, чем за 1,5 часа до начала экзаме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лучение экзаменационных материалов (форма 14-П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Э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, проверка комплектности и целостности ЭМ, размещение их в сейфе ППЭ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лучение необходимых форм и документов (на СД-диске) и распечатка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егистрация, распределение, назначение ответственных организаторов (форма ППЭ-07-01, ППЭ-07-02) и краткий инструктаж организаторов и работников ППЭ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дать ведомости и протоколы организаторам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6005520" y="4261320"/>
            <a:ext cx="2898720" cy="1140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Организаторам вне аудитории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ПЭ-06-01, ППЭ-16, ППЭ-12-02, ППЭ-2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85" name="AutoShape 25"/>
          <p:cNvCxnSpPr>
            <a:stCxn id="82" idx="3"/>
          </p:cNvCxnSpPr>
          <p:nvPr/>
        </p:nvCxnSpPr>
        <p:spPr>
          <a:xfrm>
            <a:off x="3782520" y="1514160"/>
            <a:ext cx="1220040" cy="5101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</p:cxnSp>
      <p:pic>
        <p:nvPicPr>
          <p:cNvPr id="86" name="Picture 26" descr="утверждающий"/>
          <p:cNvPicPr/>
          <p:nvPr/>
        </p:nvPicPr>
        <p:blipFill>
          <a:blip r:embed="rId1"/>
          <a:stretch/>
        </p:blipFill>
        <p:spPr>
          <a:xfrm>
            <a:off x="8358120" y="3357720"/>
            <a:ext cx="466920" cy="504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2" descr="час"/>
          <p:cNvPicPr/>
          <p:nvPr/>
        </p:nvPicPr>
        <p:blipFill>
          <a:blip r:embed="rId2"/>
          <a:stretch/>
        </p:blipFill>
        <p:spPr>
          <a:xfrm>
            <a:off x="214200" y="1606680"/>
            <a:ext cx="371520" cy="37152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5"/>
          <p:cNvSpPr/>
          <p:nvPr/>
        </p:nvSpPr>
        <p:spPr>
          <a:xfrm>
            <a:off x="185760" y="4264920"/>
            <a:ext cx="5603760" cy="2158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Организаторам в аудитория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писки участников экзамена в аудиториях, протоколы (формы ППЭ-05-01, ППЭ-05-02, 12-01, 12-02, 12-03, сопроводительные бланки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аблички с номером аудитори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озвратные спецпакеты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нструкцию, зачитываемую организатором в аудитории перед началом экзамена для участников ОГЭ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ерновик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89" name="AutoShape 25"/>
          <p:cNvCxnSpPr/>
          <p:nvPr/>
        </p:nvCxnSpPr>
        <p:spPr>
          <a:xfrm flipH="1">
            <a:off x="2986920" y="3943440"/>
            <a:ext cx="685080" cy="2944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0" name="AutoShape 25"/>
          <p:cNvCxnSpPr/>
          <p:nvPr/>
        </p:nvCxnSpPr>
        <p:spPr>
          <a:xfrm>
            <a:off x="5286240" y="3929040"/>
            <a:ext cx="1735920" cy="3006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0000" y="142920"/>
            <a:ext cx="795816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день экзамена руководитель ППЭ долж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3"/>
          <p:cNvSpPr/>
          <p:nvPr/>
        </p:nvSpPr>
        <p:spPr>
          <a:xfrm>
            <a:off x="324000" y="333360"/>
            <a:ext cx="81356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Не позднее чем за 1,5 часа до начала проведения экзамена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овать выдачу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Verdana"/>
              </a:rPr>
              <a:t>ответственным организаторам </a:t>
            </a:r>
            <a:br>
              <a:rPr sz="2000"/>
            </a:br>
            <a:r>
              <a:rPr b="0" lang="ru-RU" sz="2000" spc="-1" strike="noStrike" u="sng">
                <a:solidFill>
                  <a:srgbClr val="ff0000"/>
                </a:solidFill>
                <a:uFillTx/>
                <a:latin typeface="Verdana"/>
              </a:rPr>
              <a:t>в аудиториях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ующих материал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иски участников экзамена  в аудиториях (форма ППЭ-05-01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домости учета участников ОГЭ и экзаменационных материалов в аудитории (форма ППЭ-05-0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токолы проведения экзамена в аудитории ППЭ (форма ППЭ-12-01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домости использования дополнительных бланков ответов № 2 (форма ППЭ-12-03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проводительные бланк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вратные спецпакет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блички  с номерами аудиторий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править организаторов в аудитории в соответстви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протоколом распределения организаторов ППЭ (форма ППЭ-07-0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3"/>
          <p:cNvSpPr/>
          <p:nvPr/>
        </p:nvSpPr>
        <p:spPr>
          <a:xfrm>
            <a:off x="324000" y="333360"/>
            <a:ext cx="81356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Не позднее чем за 1,5 часа до начала проведения экзамена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овать выдачу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Verdana"/>
              </a:rPr>
              <a:t>организаторам вне аудиторий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ующих материал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иски участников ОГЭ образовательной организации (форма ППЭ-06-01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шифровки кодов образовательных организаций (форма ППЭ-16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домости коррекции персональных данных участников ОГЭ в аудитории (форма ППЭ-12-0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кты об идентификации личности участника ОГЭ (форма ППЭ-2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метить в форме ППЭ-07-02 общественного наблюдателя и передать ему акт о результатах общественного наблюдения (форма ППЭ-18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е позднее, чем за 45 минут до начала проведения экзамен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дать указание начать организованный вход участников экзаменов в ППЭ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2"/>
          <p:cNvSpPr/>
          <p:nvPr/>
        </p:nvSpPr>
        <p:spPr>
          <a:xfrm>
            <a:off x="108000" y="41400"/>
            <a:ext cx="8928000" cy="65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Руководитель ППЭ за 30 минут до экзамена должен проконтролировать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усскому языку -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каждой аудитори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и для воспроизведения аудиозаписи текста для прослушивания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нь проведения экзамена по русскому языку в штабе ППЭ должна находиться резервная звуковоспроизводящая аппаратура с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иводом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физике –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тстви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а по физик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читель физики, не преподающий в данном классе) для проведения перед экзаменом инструктажа по технике безопасности и за соблюдением правил безопасного труда во время работы учащихся с лабораторным оборудованием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нформатике и ИКТ –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тстви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аудитории, где будет проводиться практическая часть экзамена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ого специалиста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ностранным языкам –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ность и работоспособность звуковоспроизводящей и звукозаписывающей техник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сутствие в аудиториях для устного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а экзаменатора-собеседника, технического специалиста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шрут перемещения участников ОГЭ по аудиториям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95" name="AutoShape 2"/>
          <p:cNvCxnSpPr/>
          <p:nvPr/>
        </p:nvCxnSpPr>
        <p:spPr>
          <a:xfrm flipH="1" rot="16200000">
            <a:off x="5722920" y="2490480"/>
            <a:ext cx="2160" cy="2160"/>
          </a:xfrm>
          <a:prstGeom prst="bentConnector5">
            <a:avLst>
              <a:gd name="adj1" fmla="val 14400000"/>
              <a:gd name="adj2" fmla="val 68800000"/>
              <a:gd name="adj3" fmla="val -14400000"/>
            </a:avLst>
          </a:prstGeom>
          <a:ln w="0">
            <a:noFill/>
          </a:ln>
        </p:spPr>
      </p:cxnSp>
      <p:sp>
        <p:nvSpPr>
          <p:cNvPr id="96" name="AutoShape 3"/>
          <p:cNvSpPr/>
          <p:nvPr/>
        </p:nvSpPr>
        <p:spPr>
          <a:xfrm>
            <a:off x="166680" y="1011240"/>
            <a:ext cx="4226040" cy="1609560"/>
          </a:xfrm>
          <a:prstGeom prst="roundRect">
            <a:avLst>
              <a:gd name="adj" fmla="val 25454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ППЭ: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зднее чем </a:t>
            </a:r>
            <a:r>
              <a:rPr b="1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45 минут до экзамена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доступ участников ОГЭ согласно спискам распределения (ППЭ-06-01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ть контроль за входом участников ОГЭ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4856040" y="2911680"/>
            <a:ext cx="4287960" cy="1798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ходе в аудиторию организатор</a:t>
            </a:r>
            <a:r>
              <a:rPr b="1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яет данные документа, удостоверяющего личность с ведомостью ППЭ-05-02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несовпадения – заполняет ведомость ППЭ-12-02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ывает участникам ОГЭ место в ауд. и место для личных вещей (ППЭ-05-02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98" name="AutoShape 25"/>
          <p:cNvCxnSpPr/>
          <p:nvPr/>
        </p:nvCxnSpPr>
        <p:spPr>
          <a:xfrm>
            <a:off x="1993680" y="2617920"/>
            <a:ext cx="1080" cy="227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9" name="AutoShape 25"/>
          <p:cNvCxnSpPr/>
          <p:nvPr/>
        </p:nvCxnSpPr>
        <p:spPr>
          <a:xfrm flipV="1">
            <a:off x="6947280" y="4717800"/>
            <a:ext cx="2520" cy="2592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0" name="AutoShape 25"/>
          <p:cNvCxnSpPr>
            <a:stCxn id="97" idx="0"/>
          </p:cNvCxnSpPr>
          <p:nvPr/>
        </p:nvCxnSpPr>
        <p:spPr>
          <a:xfrm flipH="1" flipV="1">
            <a:off x="6998400" y="2342880"/>
            <a:ext cx="2520" cy="5608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1" name="AutoShape 3"/>
          <p:cNvSpPr/>
          <p:nvPr/>
        </p:nvSpPr>
        <p:spPr>
          <a:xfrm>
            <a:off x="0" y="2844720"/>
            <a:ext cx="4687920" cy="1692360"/>
          </a:xfrm>
          <a:prstGeom prst="roundRect">
            <a:avLst>
              <a:gd name="adj" fmla="val 25454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 участников ОГЭ в ППЭ: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документа, удостоверяющего личность. В случае отсутствия по объективным причинам у обучающегося документа – форма ППЭ-20.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наличия у участников средств связи и иных запрещенных средств и материалов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AutoShape 3"/>
          <p:cNvSpPr/>
          <p:nvPr/>
        </p:nvSpPr>
        <p:spPr>
          <a:xfrm>
            <a:off x="0" y="4861800"/>
            <a:ext cx="4500720" cy="1209240"/>
          </a:xfrm>
          <a:prstGeom prst="roundRect">
            <a:avLst>
              <a:gd name="adj" fmla="val 25454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44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 лиц, имеющих право присутствовать в ППЭ: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244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документов, удостоверяющих личность и полномочия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AutoShape 3"/>
          <p:cNvSpPr/>
          <p:nvPr/>
        </p:nvSpPr>
        <p:spPr>
          <a:xfrm>
            <a:off x="4856040" y="5022000"/>
            <a:ext cx="4287960" cy="941400"/>
          </a:xfrm>
          <a:prstGeom prst="roundRect">
            <a:avLst>
              <a:gd name="adj" fmla="val 25454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е участников экзамена по аудиториям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торами вне и в ауд. в соответствии с формами 05-02, 06-0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AutoShape 3"/>
          <p:cNvSpPr/>
          <p:nvPr/>
        </p:nvSpPr>
        <p:spPr>
          <a:xfrm>
            <a:off x="4392720" y="1135440"/>
            <a:ext cx="4740120" cy="1341000"/>
          </a:xfrm>
          <a:prstGeom prst="roundRect">
            <a:avLst>
              <a:gd name="adj" fmla="val 25454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экзамена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мают свои места, не переговариваются, не меняются местам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т при себе документ, удостоверяющий личность, черную гелевую ручку, доп. материалы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05" name="AutoShape 25"/>
          <p:cNvCxnSpPr/>
          <p:nvPr/>
        </p:nvCxnSpPr>
        <p:spPr>
          <a:xfrm>
            <a:off x="1979280" y="4575240"/>
            <a:ext cx="1080" cy="2419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6" name="AutoShape 25"/>
          <p:cNvCxnSpPr/>
          <p:nvPr/>
        </p:nvCxnSpPr>
        <p:spPr>
          <a:xfrm flipV="1">
            <a:off x="4500360" y="5503680"/>
            <a:ext cx="356040" cy="165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0" y="189000"/>
            <a:ext cx="692784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ход участников ОГЭ в ППЭ и распределение по аудитори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8" name="AutoShape 2"/>
          <p:cNvCxnSpPr/>
          <p:nvPr/>
        </p:nvCxnSpPr>
        <p:spPr>
          <a:xfrm flipH="1" rot="16200000">
            <a:off x="5640480" y="2645280"/>
            <a:ext cx="2160" cy="1080"/>
          </a:xfrm>
          <a:prstGeom prst="bentConnector5">
            <a:avLst>
              <a:gd name="adj1" fmla="val 14400000"/>
              <a:gd name="adj2" fmla="val 68800000"/>
              <a:gd name="adj3" fmla="val -14400000"/>
            </a:avLst>
          </a:prstGeom>
          <a:ln w="0">
            <a:noFill/>
          </a:ln>
        </p:spPr>
      </p:cxnSp>
      <p:sp>
        <p:nvSpPr>
          <p:cNvPr id="109" name="AutoShape 3"/>
          <p:cNvSpPr/>
          <p:nvPr/>
        </p:nvSpPr>
        <p:spPr>
          <a:xfrm>
            <a:off x="108000" y="871920"/>
            <a:ext cx="3889440" cy="3029400"/>
          </a:xfrm>
          <a:prstGeom prst="roundRect">
            <a:avLst>
              <a:gd name="adj" fmla="val 25454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Не позднее, чем за 15 минут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торы в аудитории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получают у руководителей ППЭ доставочные пакеты с ЭМ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Во время экзамена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руководитель ППЭ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совместно с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уполномоченным ГЭК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осуществляют контроль за ходом проведения экзамена, проверяет помещения ППЭ на предмет присутствия посторонних лиц, решать иные вопросы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4205160" y="4292280"/>
            <a:ext cx="4788000" cy="2125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нструктаж участников ОГЭ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 порядке проведения экзамена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 правилах подачи апелляции о нарушении установленного порядка проведения ОГЭ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 правилах заполнения бланков ОГЭ, случаях удаления с экзамена, использовании доп. материало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 времени и месте ознакомления с результатами ОГЭ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11" name="AutoShape 25"/>
          <p:cNvCxnSpPr/>
          <p:nvPr/>
        </p:nvCxnSpPr>
        <p:spPr>
          <a:xfrm flipH="1" flipV="1">
            <a:off x="6587280" y="2448720"/>
            <a:ext cx="1080" cy="1962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</p:cxnSp>
      <p:pic>
        <p:nvPicPr>
          <p:cNvPr id="112" name="Picture 32" descr="час"/>
          <p:cNvPicPr/>
          <p:nvPr/>
        </p:nvPicPr>
        <p:blipFill>
          <a:blip r:embed="rId1"/>
          <a:stretch/>
        </p:blipFill>
        <p:spPr>
          <a:xfrm>
            <a:off x="3071880" y="1143000"/>
            <a:ext cx="372960" cy="371520"/>
          </a:xfrm>
          <a:prstGeom prst="rect">
            <a:avLst/>
          </a:prstGeom>
          <a:ln w="0">
            <a:noFill/>
          </a:ln>
        </p:spPr>
      </p:pic>
      <p:cxnSp>
        <p:nvCxnSpPr>
          <p:cNvPr id="113" name="AutoShape 25"/>
          <p:cNvCxnSpPr/>
          <p:nvPr/>
        </p:nvCxnSpPr>
        <p:spPr>
          <a:xfrm flipV="1">
            <a:off x="6737760" y="3970080"/>
            <a:ext cx="1080" cy="1944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4" name="AutoShape 3"/>
          <p:cNvSpPr/>
          <p:nvPr/>
        </p:nvSpPr>
        <p:spPr>
          <a:xfrm>
            <a:off x="108000" y="4166640"/>
            <a:ext cx="3744720" cy="2145960"/>
          </a:xfrm>
          <a:prstGeom prst="roundRect">
            <a:avLst>
              <a:gd name="adj" fmla="val 25454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Ответственный организатор :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Демонстрирует целостность упаковки спецпакета с ЭМ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Вскрывает доставочный пакет с ИК (в ППЭ-12-01 фиксируется дата и время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торы раздают участникам ОГЭ ИК в произвольном порядке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4356000" y="2693520"/>
            <a:ext cx="4637160" cy="1341000"/>
          </a:xfrm>
          <a:prstGeom prst="roundRect">
            <a:avLst>
              <a:gd name="adj" fmla="val 25454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Участники экзамена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в процессе инструктажа по указанию организатора вскрывают ИК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проверяют комплектацию и наличие полиграфического брака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4356000" y="658080"/>
            <a:ext cx="4645080" cy="1073160"/>
          </a:xfrm>
          <a:prstGeom prst="roundRect">
            <a:avLst>
              <a:gd name="adj" fmla="val 25454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Объявляется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начало, продолжительность и время окончания экзамена,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фиксируется время начала и окончания на доске  в формах                  ППЭ-12-01, ППЭ-05-02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17" name="AutoShape 25"/>
          <p:cNvCxnSpPr/>
          <p:nvPr/>
        </p:nvCxnSpPr>
        <p:spPr>
          <a:xfrm flipH="1" flipV="1">
            <a:off x="6587280" y="1731240"/>
            <a:ext cx="1080" cy="2055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8" name="AutoShape 25"/>
          <p:cNvCxnSpPr/>
          <p:nvPr/>
        </p:nvCxnSpPr>
        <p:spPr>
          <a:xfrm>
            <a:off x="3924000" y="4903920"/>
            <a:ext cx="18468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9" name="AutoShape 3"/>
          <p:cNvSpPr/>
          <p:nvPr/>
        </p:nvSpPr>
        <p:spPr>
          <a:xfrm>
            <a:off x="4356000" y="1951200"/>
            <a:ext cx="4645080" cy="536760"/>
          </a:xfrm>
          <a:prstGeom prst="roundRect">
            <a:avLst>
              <a:gd name="adj" fmla="val 25454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Участники экзамена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заполняют регистрационные поля бланков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20" name="AutoShape 25"/>
          <p:cNvCxnSpPr/>
          <p:nvPr/>
        </p:nvCxnSpPr>
        <p:spPr>
          <a:xfrm flipH="1">
            <a:off x="2125080" y="3679920"/>
            <a:ext cx="1080" cy="1958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02920" y="115920"/>
            <a:ext cx="692964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чало экзамена в аудитории ПП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Прямоугольник 4" descr=""/>
          <p:cNvPicPr/>
          <p:nvPr/>
        </p:nvPicPr>
        <p:blipFill>
          <a:blip r:embed="rId1"/>
          <a:stretch/>
        </p:blipFill>
        <p:spPr>
          <a:xfrm>
            <a:off x="4876920" y="-6480"/>
            <a:ext cx="4254480" cy="97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Object 3"/>
          <p:cNvGraphicFramePr/>
          <p:nvPr/>
        </p:nvGraphicFramePr>
        <p:xfrm>
          <a:off x="142920" y="714240"/>
          <a:ext cx="6769080" cy="615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714240"/>
                    <a:ext cx="676908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Прямоугольник 5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f81bd">
              <a:alpha val="1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1200" y="231840"/>
            <a:ext cx="6715080" cy="46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ормативные правовые ак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2286000" y="69840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едеральные докум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249120" y="1190520"/>
            <a:ext cx="85010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образовании в Российской Федерации» от 29.12.2012 № 273-ФЗ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249120" y="2262240"/>
            <a:ext cx="850104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формирования и ведения ФИС ГИА и приема и РИС ГИ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31.08.2013 № 755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Прямоугольник 6"/>
          <p:cNvSpPr/>
          <p:nvPr/>
        </p:nvSpPr>
        <p:spPr>
          <a:xfrm>
            <a:off x="249120" y="3333600"/>
            <a:ext cx="85010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аккредитации общественных наблюдателе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28.06.2013 № 491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Стрелка вниз 11"/>
          <p:cNvSpPr/>
          <p:nvPr/>
        </p:nvSpPr>
        <p:spPr>
          <a:xfrm>
            <a:off x="8572680" y="1785960"/>
            <a:ext cx="357120" cy="571320"/>
          </a:xfrm>
          <a:prstGeom prst="downArrow">
            <a:avLst>
              <a:gd name="adj1" fmla="val 50000"/>
              <a:gd name="adj2" fmla="val 49993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Стрелка вниз 12"/>
          <p:cNvSpPr/>
          <p:nvPr/>
        </p:nvSpPr>
        <p:spPr>
          <a:xfrm>
            <a:off x="8572680" y="2857680"/>
            <a:ext cx="357120" cy="571320"/>
          </a:xfrm>
          <a:prstGeom prst="downArrow">
            <a:avLst>
              <a:gd name="adj1" fmla="val 50000"/>
              <a:gd name="adj2" fmla="val 49993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Стрелка вниз 13"/>
          <p:cNvSpPr/>
          <p:nvPr/>
        </p:nvSpPr>
        <p:spPr>
          <a:xfrm>
            <a:off x="8643960" y="3978360"/>
            <a:ext cx="357120" cy="571320"/>
          </a:xfrm>
          <a:prstGeom prst="downArrow">
            <a:avLst>
              <a:gd name="adj1" fmla="val 50000"/>
              <a:gd name="adj2" fmla="val 49993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Прямоугольник 15"/>
          <p:cNvSpPr/>
          <p:nvPr/>
        </p:nvSpPr>
        <p:spPr>
          <a:xfrm>
            <a:off x="249120" y="4365720"/>
            <a:ext cx="8572680" cy="10713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образования и науки Российской Федерации от 25.12.2013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94 «Об утверждении Порядка проведения государственной итоговой аттестации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бразовательным программам основного общего образования»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Прямоугольник 4" descr=""/>
          <p:cNvPicPr/>
          <p:nvPr/>
        </p:nvPicPr>
        <p:blipFill>
          <a:blip r:embed="rId1"/>
          <a:stretch/>
        </p:blipFill>
        <p:spPr>
          <a:xfrm>
            <a:off x="4876920" y="-6480"/>
            <a:ext cx="4254480" cy="97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Object 1"/>
          <p:cNvGraphicFramePr/>
          <p:nvPr/>
        </p:nvGraphicFramePr>
        <p:xfrm>
          <a:off x="71280" y="663480"/>
          <a:ext cx="5572440" cy="616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" y="663480"/>
                    <a:ext cx="557244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Прямоугольник 3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f81bd">
              <a:alpha val="1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2"/>
          <p:cNvSpPr/>
          <p:nvPr/>
        </p:nvSpPr>
        <p:spPr>
          <a:xfrm>
            <a:off x="119160" y="1000080"/>
            <a:ext cx="4645080" cy="4352760"/>
          </a:xfrm>
          <a:prstGeom prst="rect">
            <a:avLst/>
          </a:prstGeom>
          <a:noFill/>
          <a:ln w="15840">
            <a:solidFill>
              <a:srgbClr val="000000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о время экзамена организатор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Оставляют неиспользованные ИК в аудитории до окончания экзамена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Проверяют правильность заполнения рег. полей на всех бланках, соответствие персональных данных участников в документе, удостоверяющем личность и в бланке регистрации по форме ППЭ-05-02. В случае расхождения отв. организатор заполняет ведомость ППЭ-12-02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Принимают ЭМ у участников, досрочно завершивших выполнение экз. работы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За 30 минут и за 5 минут до окончания экзамена информируют участников ОГЭ о времени, оставшемся до конца экзамена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За 15 мин. до окончания пересчитывают лишние ИК в аудитории, отмечают в форме ППЭ-05-02 факты неявки участников на экзамен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Прямоугольник 2"/>
          <p:cNvSpPr/>
          <p:nvPr/>
        </p:nvSpPr>
        <p:spPr>
          <a:xfrm>
            <a:off x="4917960" y="1000080"/>
            <a:ext cx="4116600" cy="3224880"/>
          </a:xfrm>
          <a:prstGeom prst="rect">
            <a:avLst/>
          </a:prstGeom>
          <a:noFill/>
          <a:ln w="15840">
            <a:solidFill>
              <a:srgbClr val="000000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торам запрещаетс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ез уважительной причины покидать аудиторию во время экзамена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меть при себе средства связи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казывать содействие участникам ОГЭ в том числе передавать им средства связи, электронно-вычислительную технику, фото, аудио и видеоаппаратуру, справочные материалы, письменные заметки и иные средства хранения и передачи информаци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ыносить из аудиторий и ППЭ экзаменационные материалы на бумажном или электронном носителях, фотографировать экзаменационные материал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4932360" y="4491000"/>
            <a:ext cx="4114800" cy="993240"/>
          </a:xfrm>
          <a:prstGeom prst="rect">
            <a:avLst/>
          </a:prstGeom>
          <a:noFill/>
          <a:ln w="15840">
            <a:solidFill>
              <a:srgbClr val="000000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торы обязаны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Следить за порядком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Не допускать нарушение участниками экзамена правил проведения ОГЭ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Прямоугольник 2"/>
          <p:cNvSpPr/>
          <p:nvPr/>
        </p:nvSpPr>
        <p:spPr>
          <a:xfrm>
            <a:off x="1476360" y="5778360"/>
            <a:ext cx="61927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аудитории во время экзамена обязательно должны находиться не менее двух организаторов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8364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йствия организатора в аудитории во время экзам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2"/>
          <p:cNvSpPr/>
          <p:nvPr/>
        </p:nvSpPr>
        <p:spPr>
          <a:xfrm>
            <a:off x="108000" y="836640"/>
            <a:ext cx="8723160" cy="5218920"/>
          </a:xfrm>
          <a:prstGeom prst="rect">
            <a:avLst/>
          </a:prstGeom>
          <a:noFill/>
          <a:ln w="15840">
            <a:solidFill>
              <a:srgbClr val="000000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ледит за порядком и не допускае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зговоров  участников ОГЭ между собо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мена любыми материалами и предметами между участниками ОГЭ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личие средств связи, электронно-вычислительной техники, фото, аудио и видеоаппаратуры, справочных материалов, кроме разрешенных, письменных заметок и иных средств хранения и передачи информаци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извольного выхода участника ОГЭ из аудитории и перемещения по ППЭ без сопровождения организатора вне аудитори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действия обучающимся, в том числе в передаче им средств связи, электронно-вычислительной техники, фото, аудио и видеоаппаратуры, справочных материалов, письменных заметок и иных средств хранения и передачи информаци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носа из аудиторий и ППЭ экзаменационных материалов на бумажном или электронном носителях, фотографирования экзаменационных материалов участниками ОГЭ, а также ассистентами или техническими специалиста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ледит за состоянием участников ОГЭ и при ухудшении самочувствия направлять участников ОГЭ в сопровождении организаторов вне аудиторий в медицинский пункт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3120" y="115920"/>
            <a:ext cx="911052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йствия организатора в аудитории во время экзам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7" name="AutoShape 2"/>
          <p:cNvCxnSpPr/>
          <p:nvPr/>
        </p:nvCxnSpPr>
        <p:spPr>
          <a:xfrm flipH="1" rot="16200000">
            <a:off x="5783400" y="2610360"/>
            <a:ext cx="2160" cy="1080"/>
          </a:xfrm>
          <a:prstGeom prst="bentConnector5">
            <a:avLst>
              <a:gd name="adj1" fmla="val 14400000"/>
              <a:gd name="adj2" fmla="val 68800000"/>
              <a:gd name="adj3" fmla="val -14400000"/>
            </a:avLst>
          </a:prstGeom>
          <a:ln w="0">
            <a:noFill/>
          </a:ln>
        </p:spPr>
      </p:cxnSp>
      <p:sp>
        <p:nvSpPr>
          <p:cNvPr id="138" name="TextBox 5"/>
          <p:cNvSpPr/>
          <p:nvPr/>
        </p:nvSpPr>
        <p:spPr>
          <a:xfrm>
            <a:off x="214200" y="917640"/>
            <a:ext cx="86439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При установлени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- факта наличия и использования средств связи, электронно-вычислительной техники, фото, аудио и видеоаппаратуры, справочных материалов, письменных заметок и иных средств хранения и передачи информаци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- пересаживания, обмена любыми материалами и предмета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- передачи, разглашения и фотографирования КИМ или их ча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- использования справочными материалами, кроме допустимых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- перемещения по ППЭ во время экзамена без сопровождения организатор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участник ОГЭ может быть удален с экзамен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ля этого организаторы или общественные наблюдатели приглашают уполномоченного представителя ГЭК, который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ставляет акт об удалении с экзамена и удаляет лиц, нарушивших устанавливаемый порядок проведения ГИА, из ППЭ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(форма ППЭ-21«Акт об удалении участника ГИА-9 с экзамена»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носит соответствующую запись в ведомость ППЭ-05-02. Участник подтверждает запись в ведомости своей подписью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920" y="258840"/>
            <a:ext cx="692928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даление с экзам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0" name="AutoShape 2"/>
          <p:cNvCxnSpPr/>
          <p:nvPr/>
        </p:nvCxnSpPr>
        <p:spPr>
          <a:xfrm flipH="1" rot="16200000">
            <a:off x="5783400" y="2610360"/>
            <a:ext cx="2160" cy="1080"/>
          </a:xfrm>
          <a:prstGeom prst="bentConnector5">
            <a:avLst>
              <a:gd name="adj1" fmla="val 14400000"/>
              <a:gd name="adj2" fmla="val 68800000"/>
              <a:gd name="adj3" fmla="val -14400000"/>
            </a:avLst>
          </a:prstGeom>
          <a:ln w="0">
            <a:noFill/>
          </a:ln>
        </p:spPr>
      </p:cxnSp>
      <p:sp>
        <p:nvSpPr>
          <p:cNvPr id="141" name="AutoShape 3"/>
          <p:cNvSpPr/>
          <p:nvPr/>
        </p:nvSpPr>
        <p:spPr>
          <a:xfrm>
            <a:off x="0" y="259200"/>
            <a:ext cx="8929800" cy="6170040"/>
          </a:xfrm>
          <a:prstGeom prst="roundRect">
            <a:avLst>
              <a:gd name="adj" fmla="val 2545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случае если участник ОГЭ по состоянию здоровья или другим объективным причинам не может завершить выполнение экзаменационной работы, он может покинуть аудиторию, при этом организатор должен пригласить медицинского работника и уполномоченного представителя ГЭ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торы в аудитории, уполномоченный представитель ГЭК в ППЭ, руководитель ППЭ, медицинский работник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ставляют соответствующий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акт (ППЭ-2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, с обязательным указанием причины не завершения экзамена, подтвержденной подписями ответственных лиц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носят соответствующую запись в ведомость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ППЭ-05-02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астник подтверждает запись в ведомости своей подписью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Уполномоченный представитель ГЭК в ППЭ направляет акт в ГЭК и РЦОИ для учета при обработке бланк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280" y="142560"/>
            <a:ext cx="831852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озможность закончить экзамен по уважительной прич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2"/>
          <p:cNvSpPr/>
          <p:nvPr/>
        </p:nvSpPr>
        <p:spPr>
          <a:xfrm>
            <a:off x="250920" y="981000"/>
            <a:ext cx="8642160" cy="5614200"/>
          </a:xfrm>
          <a:prstGeom prst="rect">
            <a:avLst/>
          </a:prstGeom>
          <a:noFill/>
          <a:ln w="15840">
            <a:solidFill>
              <a:srgbClr val="000000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кончании экзамена организатор должен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ъявить, что экзамен окончен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нять у участников экзамена в организованном порядк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бланки ответов №1, бланки ответов №2, дополнительные бланки ответов № 2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использованные КИМ участников ОГЭ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неиспользованные ИК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бракованные, некомплектные ИК, испорченные ИК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черновик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авить прочерк 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» на полях бланков ответов №2, предназначенных для записи ответов в свободной форме, но оставшихся незаполненными (в том числе и на его оборотной стороне), а также в выданных  дополнительных бланках ответов № 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ересчитать бланки ОГЭ и запечатать их в возвратные доставочные пакеты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264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Заполняет форму ППЭ-05-0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264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Заполняют форму ППЭ-12-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692928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вершение экзамена в аудитории ПП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5" name="AutoShape 2"/>
          <p:cNvCxnSpPr/>
          <p:nvPr/>
        </p:nvCxnSpPr>
        <p:spPr>
          <a:xfrm flipH="1" rot="16200000">
            <a:off x="5783400" y="2610360"/>
            <a:ext cx="2160" cy="1080"/>
          </a:xfrm>
          <a:prstGeom prst="bentConnector5">
            <a:avLst>
              <a:gd name="adj1" fmla="val 14400000"/>
              <a:gd name="adj2" fmla="val 68800000"/>
              <a:gd name="adj3" fmla="val -14400000"/>
            </a:avLst>
          </a:prstGeom>
          <a:ln w="0">
            <a:noFill/>
          </a:ln>
        </p:spPr>
      </p:cxnSp>
      <p:sp>
        <p:nvSpPr>
          <p:cNvPr id="146" name="Прямоугольник 2"/>
          <p:cNvSpPr/>
          <p:nvPr/>
        </p:nvSpPr>
        <p:spPr>
          <a:xfrm>
            <a:off x="179280" y="1557360"/>
            <a:ext cx="9072720" cy="5316120"/>
          </a:xfrm>
          <a:prstGeom prst="rect">
            <a:avLst/>
          </a:prstGeom>
          <a:noFill/>
          <a:ln w="15840">
            <a:solidFill>
              <a:srgbClr val="000000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indent="31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печатанные возвратные спецпакеты с бланками ответов № 1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1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печатанные возвратные спецпакеты с бланками ответов № 2, дополнительными бланками ответов № 2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1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печатанный в конверт внешний носитель (CD, флеш-карты и др.) с файлами экзаменационных работ участников по информатике и ИКТ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1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печатанный в конверт внешний носитель (CD, флеш-карты и др.) с файлами ответов участников на задания устной части экзамена по иностранному язык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1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использованные дополнительные бланки ответов № 2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1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нные К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1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ерновик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1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использованные доставочные спецпакеты  с индивидуальными комплектами экзаменационных материало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1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использованные индивидуальные комплекты экзаменационных материалов (в т.ч. из вскрытого резервного спецпакета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1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ндивидуальные комплекты, в которых были обнаружены лишние (недостающие), имеющие полиграфические дефекты КИМ, блан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1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Прямоугольник 2"/>
          <p:cNvSpPr/>
          <p:nvPr/>
        </p:nvSpPr>
        <p:spPr>
          <a:xfrm>
            <a:off x="250920" y="836640"/>
            <a:ext cx="8688240" cy="628920"/>
          </a:xfrm>
          <a:prstGeom prst="rect">
            <a:avLst/>
          </a:prstGeom>
          <a:noFill/>
          <a:ln w="15840">
            <a:solidFill>
              <a:srgbClr val="000000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Руководитель ППЭ сформировывает и передает уполномоченному ГЭК в ППЭ по акту приемки-передачи 14-ППЭ все Э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58400" y="115920"/>
            <a:ext cx="692964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вершение ОГЭ в ПП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2"/>
          <p:cNvSpPr/>
          <p:nvPr/>
        </p:nvSpPr>
        <p:spPr>
          <a:xfrm>
            <a:off x="106200" y="333360"/>
            <a:ext cx="9072720" cy="6904800"/>
          </a:xfrm>
          <a:prstGeom prst="rect">
            <a:avLst/>
          </a:prstGeom>
          <a:noFill/>
          <a:ln w="15840">
            <a:solidFill>
              <a:srgbClr val="000000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indent="31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токол проведения ОГЭ в ППЭ (форма ППЭ-13-01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1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ормы ППЭ-05-01,ППЭ-07-01, ППЭ-07-02, ППЭ-12-02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1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ледующие акты: акт готовности ППЭ (форма ППЭ-01), акт о результатах общественного контроля (форма ППЭ-18), а также по наличию – акт идентификации личности участника ОГЭ (форма ППЭ-20), акт об удалении участника ОГЭ (форма ППЭ-21), акт о досрочном завершении экзамена по объективным причинам (форма ППЭ-22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1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ланк апелляции о нарушении установленного порядка проведения ГИА-9 (форма ППЭ-02) и протокол рассмотрения апелляции о нарушении установленного порядка проведения ГИА-9 (форма ППЭ-03) – по наличию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1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диск с файлами практических экзаменационных заданий по информатике и ИКТ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1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CD-диски с цифровой аудиозаписью исходного текста для написания участниками краткого изложения по русскому язык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1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CD-диски с материалами для выполнения участниками задани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 аудированию письменной части экзаменационной работы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 иностранному язык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1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мплекты вариантов экзаменационных заданий для экзаменаторов - собеседников по иностранному язык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1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ругие документы и материалы, которые руководитель ППЭ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уполномоченный представитель ГЭК в ППЭ сочли необходимым передать в РЦО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1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816264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сутствие документа, удостоверяющего личность участника ГИА-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1412640"/>
            <a:ext cx="8856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90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отсутствия у участника ГИА-9  документа, удостоверяющего личность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ППЭ и сопровождающий от У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формляют форму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ПЭ-21 «Акт идентификации личности участника ГИА – 9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ин экземпляр протокола остается у руководителя ОУ - ППЭ, второй у сопровождающего от ОУ. Участник экзамена пропускается в ППЭ.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0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ППЭ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ен уведомить ответственного организатора в аудитории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ой сдает данный участник экзамен о том, что данного участника необходимо пропустить в аудиторию на основании «Акта об идентификации личности участника ГИА-9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0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ППЭ-21 передается в РЦО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80640" y="188640"/>
            <a:ext cx="81630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еявка участника ОГЭ на экзам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3640" y="1196640"/>
            <a:ext cx="8281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провождающий из ОУ дает информацию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 причине отсутств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участника ОГЭ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Если участник ОГЭ отсутствует по уважительной причине (болезнь, смерть близких родственников и т.д.),  в день проведения экзамена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У и МОУО ходатайствует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 допуске данного участника ОГЭ в резервный день (или в дополнительные сроки) приложением документов, подтверждающих наличие уважительной причи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539640" y="914760"/>
            <a:ext cx="7993080" cy="1618560"/>
          </a:xfrm>
          <a:prstGeom prst="rect">
            <a:avLst/>
          </a:prstGeom>
          <a:solidFill>
            <a:srgbClr val="e6b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каз Министерства образования и науки Российской Федерации от 25 марта 2014 г. N 228   "Об утверждении единого расписания и продолжительности проведения основного государственного экзамена по каждому учебному предмету, перечня средств обучения и воспитания, используемых при его проведении в 2014 году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539640" y="2924280"/>
            <a:ext cx="7993080" cy="1923480"/>
          </a:xfrm>
          <a:prstGeom prst="rect">
            <a:avLst/>
          </a:prstGeom>
          <a:solidFill>
            <a:srgbClr val="e6b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тодические рекомендаци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 подготовке и проведению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осударственной итоговой аттестации по образовательным программам основного общего образования в форме основного государственного экзамена (письмо Федеральной службы по надзору в сфере образования и наук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 13.03.2014 № 02-105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71200" y="53640"/>
            <a:ext cx="81630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езавершение экзамена                                           по уважительной причин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4000" y="1125000"/>
            <a:ext cx="8496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исключительном случае участник экзамена по уважительной причине (например, проблемы со здоровьем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жет покинуть аудиторию, не закончив экзаме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аком случае ответственны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рганизатор в аудитории должен сообщи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б этой ситуаци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дицинскому работник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уководителю ППЭ и уполномоченному представителю ГЭК Р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шеперечисленными лицами заполняется форм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ПЭ-2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Акт о досрочном завершении экзамена по объективным причина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У и МОУО ходатайствует о допуске данного участника ОГЭ в резервный де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"/>
          <p:cNvSpPr/>
          <p:nvPr/>
        </p:nvSpPr>
        <p:spPr>
          <a:xfrm>
            <a:off x="755640" y="476280"/>
            <a:ext cx="7848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ГИА для обучающихся, изучавших родной язык (татарский, чувашский, марийский, удмуртский, марийский) из числа языков народов Российской Федерации и литературу народов России на родном языке из числа языков народов Российской Федерации и выбравших экзамен по данным предметам для прохождения государственной итоговой аттестации в 2014 год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(приказ МОиН РТ от 15.04.2014г. № 2105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Прямоугольник 2"/>
          <p:cNvSpPr/>
          <p:nvPr/>
        </p:nvSpPr>
        <p:spPr>
          <a:xfrm>
            <a:off x="395280" y="3782880"/>
            <a:ext cx="874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ИА по родному языку и родной литературе проводи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0 июня 2014 го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кзаменационная работа представляет собой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зложение с творческим задание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кзаменационная работа оформляе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 бланках ответ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аны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единые критерии оценивания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всех язык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1"/>
          <p:cNvSpPr/>
          <p:nvPr/>
        </p:nvSpPr>
        <p:spPr>
          <a:xfrm>
            <a:off x="468360" y="173160"/>
            <a:ext cx="85676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ИА по родному языку и родной литературе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водится в ПП ОГЭ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 день до экзамена руководитель ППЭ организует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аспределени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бучающихся и организаторов по аудиториям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ручную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ецпакеты с ЭМ выд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9 или 10 июня 2014г.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полномоченным представителям ГЭ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должительность экзамена –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 часа 55 ми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 (235 мин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астникам ГИА по родному языку и родной литературе разрешае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льзоваться орфографическими словарям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кст изложения читает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читель начального класса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ладеющий родным языком, и не преподающий в образовательной организации, обучающиеся которой сдают экзамен в данной аудитории. Текст изложения читается два раза. После второго прочтения учитель начального класса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олжен покинуть экзаменационную аудиторию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верка экзаменационных работ осуществляе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метными комиссиям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по соответствующим учебным предмета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1619280" y="1432080"/>
            <a:ext cx="698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Коды предметов по родному языку и родной литератур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6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- татарский язык и литератур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7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–чувашский язык и литератур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8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 удмуртский язык и литератур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9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 марийский язык и литератур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 мордовский язык и литератур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рядок подачи апелляции по результат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836640"/>
            <a:ext cx="915192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елляция о несогласии с выставленными баллами ОГЭ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ется в ОО,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которой они были допущены в установленном порядке к ГИА,  в течени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х рабочих дне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 дня объявления результатов экзамена по соответствующему общеобразовательному предмету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ОО, принявший апелляцию, должен передать ее в МОУО для дальнейшей передачи в Конфликтную комисси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апелляций о несогласии с выставленными баллами осуществляется в электронном виде. МОУО передает зарегистрированное заявление апелляции с указанием даты и времени рассмотрения в общеобразовательную организаци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 заблаговременно информирует участников ОГЭ и (или) их родителей (законных представителей) о времени и месте рассмотрения апелляци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регистрации и рассмотрения апелляци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несогласии                              с выставленными баллами по результатам ОГЭ: ГБУ «Республиканский центр мониторинга качества образования» (г.Казань, ул. Боевая, д.13, тел. 223-09-17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8163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пелляции о нарушении процедуры проведения экзам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95280" y="169992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ачи апелляции о нарушении установленного порядка проведения ОГЭ участник экзамена должен обратиться к ответственному организатору в аудитории или руководителю ППЭ, который должен выдать участнику экзамена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 ППЭ-02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пелляция о нарушении установленного порядка проведения ГИА-9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лномоченный представитель ГЭК обязан немедленно провест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ебное расследовани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фактам, изложенным в поданном заявлении, и оформить Протокол служебного расследования апелляции о нарушении установленного порядка проведения ГИА-9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орма ППЭ-0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пелляционные документы о нарушении установленного порядка проведения ГИА-9 вместе с протоколом служебного расследования передаются в РЦОИ  уполномоченным представителем ГЭК Р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ПЭ могут находиться лица, направленные департаментом надзора и контроля в сфере образования министерства для осуществления контроля за ходом проведения государственной итоговой аттестации, или члены ГЭК Р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99640" y="620640"/>
            <a:ext cx="755028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тветственность должностных ли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8000" y="1700280"/>
            <a:ext cx="8110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, привлекаемые к работе по подготовке и проведению государственной итоговой аттестации, в период выполнения ими функций по проведению государственной итоговой аттестации обучающихся признаю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ными лиц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несут ответственность в соответствии с законодательством Российской Федерации за неисполнение или ненадлежащее исполнение своих обязанностей и злоупотребление служебным положение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ственность общеобразовательных организа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4360" y="1916280"/>
            <a:ext cx="764352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ь за ознакомление выпускников IX классов, родителей (их законных представителей) с нормативными правовыми актами, инструкциями, регламентирующими проведение государственной итоговой аттестации обучающихся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лагается на общеобразовательную организацию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Единый республиканский экзамен                                                    по татарскому языку и татарской литературе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17360" y="1125360"/>
            <a:ext cx="9026640" cy="64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РЭ по татарской литературе проводится –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 июн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по татарскому языку –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9 июн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текущего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М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даются в день проведения экзамен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олномоченным представителям ГЭК Р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овательной организацией оформляетс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пуск на ПП ЕГЭ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РЭ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водится в ПП ЕГЭ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 день до экзамена руководитель ППЭ организует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спределе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бучающихся и организаторов по аудиториям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ручную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резервный день - межмуниципальное планирование в соответствии с приказом МОиН РТ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должительность экзамена –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,5 часа (210 минут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М по разным кодам упаковываютс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дель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0" y="475920"/>
            <a:ext cx="575964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е  докумен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6769080" cy="1784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528480" y="3429000"/>
            <a:ext cx="779796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6560" y="282600"/>
            <a:ext cx="8163000" cy="354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онтактные телефоны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. тел. 294-95-62,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ЦОИ (г.Казань, ул. Боевая, д 13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л. 223-09-17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lyaush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lahova@tatar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26920" y="4292640"/>
            <a:ext cx="811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395280" y="297000"/>
            <a:ext cx="84247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еста расположения пунктов проведения ОГЭ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тверждены приказом МОиН РТ от 13.02.2014г. № 665/1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став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иц, </a:t>
            </a:r>
            <a:r>
              <a:rPr b="1" lang="tt-RU" sz="1800" spc="-1" strike="noStrike">
                <a:solidFill>
                  <a:srgbClr val="000000"/>
                </a:solidFill>
                <a:latin typeface="Verdana"/>
              </a:rPr>
              <a:t>привлекаемых к проведению основного государственного экзамена</a:t>
            </a:r>
            <a:r>
              <a:rPr b="0" lang="tt-RU" sz="1800" spc="-1" strike="noStrike">
                <a:solidFill>
                  <a:srgbClr val="000000"/>
                </a:solidFill>
                <a:latin typeface="Verdana"/>
              </a:rPr>
              <a:t> в 2014 году: руководителей и резерва  руководителей ППЭ, организаторов в аудиториЙ и вне аудиторий,  ттехнических специалистов для проведения ОГЭ по информатике и ИКТ, иностранным (английский, немецкий, французский) языкам, специалистов по проведению инструктажа и обеспечению лабораторных работ для проведения ОГЭ по физике, экзаменаторов-собеседников, ведущих собеседование при проведении устной части ОГЭ по иностранным языкам, ассистентов для лиц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ограниченными возможностями здоровья утвержден приказом МОиН РТ от 21.03.2014 № 1507/1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став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полномоченных представителей ГЭК РТ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твержден приказом МОиН РТ от 08.05.2014 № 2654/1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ставы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едметных комиссий Республики Татарстан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 проверке заданий с развернутым ответом ОГЭ  и по проверке письменного экзамена государственной итоговой аттестации по языку и родной литературе утверждены приказом МОиН РТ от 17.04.2014 № 2153/14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280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лжительность ОГЭ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39640" y="1125360"/>
          <a:ext cx="8136000" cy="5183280"/>
        </p:xfrm>
        <a:graphic>
          <a:graphicData uri="http://schemas.openxmlformats.org/drawingml/2006/table">
            <a:tbl>
              <a:tblPr/>
              <a:tblGrid>
                <a:gridCol w="3743280"/>
                <a:gridCol w="4392720"/>
              </a:tblGrid>
              <a:tr h="47160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редм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родолжительность экзам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73332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русский язык, математика, литература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часа 55 минут (235 мину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99396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физика, история, обществознание, би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часа (180 мину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43668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информатика и ИК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часа 30 минут (150 мину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54756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химия, географ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часа (120 мину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200016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иностранные языки (английский, французский, немецки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часа  10 минут (130 минут) – письменная часть экзамена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минут на каждого экзаменуемого – устная часть экзаме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0755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чень дополнительных устройств и материалов, пользование которыми разрешено на ОГ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125360"/>
          <a:ext cx="8712000" cy="5650200"/>
        </p:xfrm>
        <a:graphic>
          <a:graphicData uri="http://schemas.openxmlformats.org/drawingml/2006/table">
            <a:tbl>
              <a:tblPr/>
              <a:tblGrid>
                <a:gridCol w="1152360"/>
                <a:gridCol w="5904000"/>
                <a:gridCol w="1655640"/>
              </a:tblGrid>
              <a:tr h="357480">
                <a:tc>
                  <a:txBody>
                    <a:bodyPr lIns="21240" rIns="21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Экзам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1240" rIns="21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дготовка дополнительных материалов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исполнител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200"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ПЭ/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Участник ОГ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очные материалы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К участника ОГЭ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линей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линей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ус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ппаратура, которая может обеспечить качественное воспроизведение аудиозаписей с компакт-диска (формат аудиозаписи -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p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рфографический слов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rowSpan="2"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из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нструкция по правилам безопас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епрограммируемый калькуля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омплекты стандартизированного лабораторного оборудовани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 соответствии с перечнем. Характеристики приборов должны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ыть проверены учителем физики и занесены в специальный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ланк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 rowSpan="2"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нструкция по правилам безопасности (для каждой аудитори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алькуля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правочные материалы  (ИК участника ОГЭ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 rowSpan="2"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ге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географические атласы для 7,8, и 9 класс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ОО, где обучается участник ОГЭ, обеспечивает и контролирует наличие                    у него атласов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епрограммируемый калькуля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линей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лит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ниги с текстами художественных произведений и сборники лирики, в которых не должно быть вступительных статей и комментариев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в соответствии с Перечнем художественных произведений и сборников лирики) Руководитель организации, на базе которой организован ППЭ, подготавливает необходимые тексты для каждой аудитори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нфор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нструкция по правилам безопасности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(для каждой аудитори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омпьютеры или ноутбу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28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дача экзаменационных материалов осуществляется уполномоченным представителям ГЭК РТ в РЦОИ (г.Казань, ул. Боевая, 13) за день или в день экзамена в соответствии графиком выдачи экзаменационных материал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ительный этап  к проведению ОГЭ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униципальный координатор должен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7-10 дней до экзаме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обучение всех категорий работников ППЭ и общественных наблюдател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ь в необходимом количестве возвратные доставочные пакеты (бумажные конверты), СД-диски (по 2 на ППЭ для проведения экзаменов по информатике, иностранным языкам)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ть соответствие ППЭ требованиям, установленным в инструкциях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каждое ППЭ медицинским работником и представителем органа охраны правопорядк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день до экзаме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ть готовность ППЭ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ть обеспеченность ППЭ техническими средствами и оборудованием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21:01:05Z</dcterms:created>
  <dc:creator>ege</dc:creator>
  <dc:description/>
  <dc:language>en-US</dc:language>
  <cp:lastModifiedBy>Салахова</cp:lastModifiedBy>
  <cp:lastPrinted>2014-05-13T19:13:30Z</cp:lastPrinted>
  <dcterms:modified xsi:type="dcterms:W3CDTF">2014-05-14T05:44:55Z</dcterms:modified>
  <cp:revision>104</cp:revision>
  <dc:subject/>
  <dc:title>Салахова М.Х.,                                                                               ведущий консультант                                                                          Министерства образования и науки РТ</dc:title>
</cp:coreProperties>
</file>